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8EC-5C51-4A43-8A16-C5EC6CDE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A95-42AD-40F8-B431-02C0D12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949-9F35-4CD4-8F18-10ADA4C1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F9E-7A70-4AF4-9BCE-69C2F373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EF79-AFC1-48CB-8830-AB2ED3DD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44B-1556-4FDF-A219-98D6017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9106-929B-48B1-87A1-408DF51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80E6-16A7-4D27-95B7-0AC2E8A1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FA9-9226-4778-8FA9-0E732B6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584C-C7D8-48A2-893B-82F01EC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7876-3B93-4F3D-949D-BAB75A4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0FD-D94E-4E62-96D4-49B3867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928-DDD8-43F2-ABDC-1D4725C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CF62-0AD6-4776-A4B7-8778076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9FF-5C35-4CA0-8E85-A43E59D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5FF8-7604-4820-8C32-EDA28AF5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A4A3-1BC3-43A0-8A5B-A1926376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605-9398-409C-B469-D57E3AEB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5C5-2900-41CA-9D10-17E013D2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8F-72BF-4F2C-A632-3FCE975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3CF-BB2A-4282-9E22-7051A340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7E2-0537-4996-B150-315183F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F05-4610-4EAC-964A-F619164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AE0-2849-4A62-8DEC-3CA0D1A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48D-A02D-450F-9E1A-A4B053C81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CA3-0F5B-4EC2-BFAC-164A55333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meracy with Peter Humphr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experience on a post-it along with your name and school and 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ed possible groupings at Level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cy 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hoto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ry 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ux Gle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a Mor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ne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Point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Mary 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ux Gle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a Mor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ne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3T03:21:35Z</dcterms:modified>
  <cp:revision>56</cp:revision>
  <dc:subject/>
  <dc:title>Enhancing literacy and numeracy outcomes through eLearning</dc:title>
</cp:coreProperties>
</file>